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82520" y="3787560"/>
            <a:ext cx="958536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252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9436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23600" y="98064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64320" y="98064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82520" y="378756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23600" y="378756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64320" y="378756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03080" y="155160"/>
            <a:ext cx="9073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252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9436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2520" y="3787560"/>
            <a:ext cx="958536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-3762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71520" indent="-2286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0560" indent="-2286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09960" indent="-2286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09960" indent="-2286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09960" indent="-2286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03080" y="155160"/>
            <a:ext cx="907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182520" y="836640"/>
            <a:ext cx="9537840" cy="5400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20" y="6477120"/>
            <a:ext cx="9523440" cy="5688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6807960" y="7920"/>
            <a:ext cx="3094920" cy="465120"/>
            <a:chOff x="6807960" y="7920"/>
            <a:chExt cx="3094920" cy="465120"/>
          </a:xfrm>
        </p:grpSpPr>
        <p:sp>
          <p:nvSpPr>
            <p:cNvPr id="5" name=""/>
            <p:cNvSpPr/>
            <p:nvPr/>
          </p:nvSpPr>
          <p:spPr>
            <a:xfrm>
              <a:off x="6807960" y="123840"/>
              <a:ext cx="2570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900" spc="-1" strike="noStrike">
                  <a:solidFill>
                    <a:srgbClr val="000000"/>
                  </a:solidFill>
                  <a:latin typeface="Arial"/>
                </a:rPr>
                <a:t>INSTITUT CATALÀ DE CIÈNCIES DEL CLIM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" name="" descr=""/>
            <p:cNvPicPr/>
            <p:nvPr/>
          </p:nvPicPr>
          <p:blipFill>
            <a:blip r:embed="rId2">
              <a:lum contrast="24000"/>
            </a:blip>
            <a:srcRect l="2171" t="3036" r="13026" b="3036"/>
            <a:stretch/>
          </p:blipFill>
          <p:spPr>
            <a:xfrm>
              <a:off x="9326520" y="7920"/>
              <a:ext cx="576360" cy="465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" name="" descr=""/>
          <p:cNvPicPr/>
          <p:nvPr/>
        </p:nvPicPr>
        <p:blipFill>
          <a:blip r:embed="rId3"/>
          <a:srcRect l="12951" t="0" r="12951" b="40404"/>
          <a:stretch/>
        </p:blipFill>
        <p:spPr>
          <a:xfrm>
            <a:off x="8864640" y="511200"/>
            <a:ext cx="1036440" cy="3207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0360" y="6578640"/>
            <a:ext cx="9723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EC-Earth Meeting: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From EC-Earth2.3 to EC-Earth3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4 January 2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160" y="907920"/>
            <a:ext cx="967572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atest results from IC3 on seasonal to decadal forecast skill 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V. Guemas (1,2), I. Andreu-Burillo (1), M. Asif (1), L. Batté (2), L.-P. Caron (1), F. J. Doblas-Reyes (1,3), J. García-Serrano (4), F. Lienert (1), C. Prodhomme (1), D. Volpi (1,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FU, IC3, Barcelona, S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NRM-GAME, Météo-France, Toulouse,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CREA, Barcelona, S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PSL, Paris,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niversity of Re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000" y="5724360"/>
            <a:ext cx="2486160" cy="665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0" t="0" r="56711" b="0"/>
          <a:stretch/>
        </p:blipFill>
        <p:spPr>
          <a:xfrm>
            <a:off x="2595600" y="5678640"/>
            <a:ext cx="826920" cy="777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794720" y="5543640"/>
            <a:ext cx="201924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0360" y="898560"/>
            <a:ext cx="9723600" cy="13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verage number of hurricanes per year estimated from observations and from EC-Earth decadal prediction (forecast years 1-5). The correlation of the ensemble mean for the initialized, uninitialized and statistical predictions are shown with the 95% confidence interv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2160" y="209520"/>
            <a:ext cx="907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Hurricane frequency pre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360" y="6103800"/>
            <a:ext cx="5176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.-P. Caron (IC3/SMH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97160" y="2529000"/>
            <a:ext cx="463536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0360" y="898560"/>
            <a:ext cx="9723600" cy="16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arison between full-field and anomaly initialisation experiments with EC-Earth2.3: FFI full-field initialisation, OSI-AI anomaly initialisation for ocean and sea ice, 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o-OSI-wAI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omaly initialisation for ocean and sea ice with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eighted anomaly and anomalies in T and density (instead of T and S). Five-member experiments for five years and start dates every 2 years over 1960-200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2160" y="209520"/>
            <a:ext cx="907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ull-field versus anomaly initia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0360" y="6103800"/>
            <a:ext cx="5176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. Volpi (IC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17520" y="2971800"/>
            <a:ext cx="4192560" cy="3157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853160" y="2843280"/>
            <a:ext cx="491472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60" y="233280"/>
            <a:ext cx="907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4640" y="954000"/>
            <a:ext cx="9588600" cy="55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-376200">
              <a:lnSpc>
                <a:spcPts val="3898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d skill in several regions when initializing l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6200" indent="-376200">
              <a:lnSpc>
                <a:spcPts val="3898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d skill over the Arctic and surrounding regions and improved NAO skill when initializing sea 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6200" indent="-376200">
              <a:lnSpc>
                <a:spcPts val="3898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hastic perturbations decrease wind b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6200" indent="-376200">
              <a:lnSpc>
                <a:spcPts val="3898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creased SST bias, lower RMSE Nino 3.4 and better NAO skill with increased resol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6200" indent="-376200">
              <a:lnSpc>
                <a:spcPts val="3898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etter skill in hurricane frequency with initial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6200" indent="-376200">
              <a:lnSpc>
                <a:spcPts val="3898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est AMO skill with the Anomaly Initialization with weighted anomalies and T/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instead of T/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6200" indent="0">
              <a:lnSpc>
                <a:spcPts val="3898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6200"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6200"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160" y="20916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4640" y="954000"/>
            <a:ext cx="9588600" cy="55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76200"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76200" indent="-3762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nd surface initial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6200" indent="-3762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a ice initial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6200" indent="-3762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ochastic perturb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6200" indent="-3762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in resol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6200" indent="-3762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opical cycl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6200" indent="-3762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fferent Anomaly Initialization approach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6200"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520" y="20916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Land surface: Impact of initialis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7160" y="863280"/>
            <a:ext cx="9758520" cy="202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4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fference in the correlation of the ensemble-mean near-surface temperature from two experiments, one using a realistic and another a climatological land-surface initialisation. Results for EC-Earth2.3 started every May over 1979-2010 with ERAInt and ORAS4 initial conditions and a sea-ice reconstruc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47520" y="6173640"/>
            <a:ext cx="5175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. Prodhomme (IC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4446" r="3595" b="15880"/>
          <a:stretch/>
        </p:blipFill>
        <p:spPr>
          <a:xfrm>
            <a:off x="4997520" y="2928960"/>
            <a:ext cx="4862520" cy="2840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4446" r="3595" b="19056"/>
          <a:stretch/>
        </p:blipFill>
        <p:spPr>
          <a:xfrm>
            <a:off x="47520" y="2933640"/>
            <a:ext cx="4865760" cy="2737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2247" t="82583" r="3146" b="5082"/>
          <a:stretch/>
        </p:blipFill>
        <p:spPr>
          <a:xfrm>
            <a:off x="173160" y="5423040"/>
            <a:ext cx="9505800" cy="877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96800" y="2556000"/>
            <a:ext cx="40053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y (first forecast mon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03960" y="2573280"/>
            <a:ext cx="4005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JJA (forecast months 2-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520" y="20916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ea-ice: Impact of initialis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7160" y="863280"/>
            <a:ext cx="9758520" cy="202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4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edictions with EC-Earth2.3 started every November over 1979-2010 with ERAInt and ORAS4 initial conditions, and a sea-ice reconstruction. Two sets, one initialised with realistic and another one with climatological sea-ice initial conditions. </a:t>
            </a:r>
            <a:r>
              <a:rPr b="0" lang="en-GB" sz="2000" spc="-1" strike="noStrike">
                <a:solidFill>
                  <a:srgbClr val="0000ff"/>
                </a:solidFill>
                <a:latin typeface="Verdana"/>
              </a:rPr>
              <a:t>Substantial reduction of temperature RMSE in the northern high latitudes when using realistic sea-ice initialis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47520" y="6173640"/>
            <a:ext cx="5175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V. Gu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8240" y="3059280"/>
            <a:ext cx="4608360" cy="32590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5113440" y="2708280"/>
            <a:ext cx="4724280" cy="3697200"/>
            <a:chOff x="5113440" y="2708280"/>
            <a:chExt cx="4724280" cy="369720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5184720" y="3114720"/>
              <a:ext cx="4653000" cy="32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5113440" y="2708280"/>
              <a:ext cx="4680000" cy="66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4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Verdana"/>
                </a:rPr>
                <a:t>Ratio RMSE Init/Clim hindcasts 2-metre temperature (months 2-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38240" y="2843280"/>
            <a:ext cx="4680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RMSE Arctic sea-ic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520" y="20916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ea ice: Impact of initialis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47520" y="6173640"/>
            <a:ext cx="5175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J. García-Serrano (IPS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50510" t="9695" r="0" b="0"/>
          <a:stretch/>
        </p:blipFill>
        <p:spPr>
          <a:xfrm>
            <a:off x="3102120" y="1989000"/>
            <a:ext cx="3724200" cy="4427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8240" y="90756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4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edictions of DJF NAO with EC-Earth2.3 started in November over 1979-2010 with ERAInt and ORAS4 initial conditions. Two sets, one initialised with realistic (top) and one with climatological (bottom) sea-ice initial condi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7160" y="863640"/>
            <a:ext cx="9767880" cy="207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JF one-month lead time bias for the 10-metre zonal wind (m/s) from EC-Earth3 T255/ORCA1 hindcasts over 1993-2009 (10-member ensembles) with the standard forecast system and with SPPT. Other improvements in probabilistic sc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5160" y="20916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tochastic perturb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22160" y="3608280"/>
            <a:ext cx="3600720" cy="2495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627520" y="3589200"/>
            <a:ext cx="3600720" cy="2495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6080" y="6103800"/>
            <a:ext cx="5176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. Batté (Météo-Fran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8240" y="3159000"/>
            <a:ext cx="4680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33960" y="3186000"/>
            <a:ext cx="4680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|SPPT|-|Control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7160" y="863640"/>
            <a:ext cx="9767880" cy="207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an SST (K) systematic error versus ERAInt for JJA one-month lead predictions of EC-Earth3 T255/ORCA1, T511/ORCA025 and ECMWF S4. May start dates over 1993-2009 using ERA-Interim and GLORYS initial conditions and five-member ensemb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65160" y="20916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easonal prediction: Impact of resol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6176" r="0" b="18527"/>
          <a:stretch/>
        </p:blipFill>
        <p:spPr>
          <a:xfrm>
            <a:off x="47520" y="2448000"/>
            <a:ext cx="3772080" cy="2195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6176" r="0" b="18527"/>
          <a:stretch/>
        </p:blipFill>
        <p:spPr>
          <a:xfrm>
            <a:off x="6134040" y="2484360"/>
            <a:ext cx="3772080" cy="2193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rcRect l="0" t="80695" r="0" b="0"/>
          <a:stretch/>
        </p:blipFill>
        <p:spPr>
          <a:xfrm>
            <a:off x="1757520" y="5859360"/>
            <a:ext cx="6283080" cy="906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35000" y="2151000"/>
            <a:ext cx="36036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C-Earth3 T255/ORC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067200" y="3591000"/>
            <a:ext cx="3771720" cy="2527200"/>
            <a:chOff x="3067200" y="3591000"/>
            <a:chExt cx="3771720" cy="2527200"/>
          </a:xfrm>
        </p:grpSpPr>
        <p:pic>
          <p:nvPicPr>
            <p:cNvPr id="85" name="" descr=""/>
            <p:cNvPicPr/>
            <p:nvPr/>
          </p:nvPicPr>
          <p:blipFill>
            <a:blip r:embed="rId4"/>
            <a:srcRect l="0" t="6176" r="0" b="18527"/>
            <a:stretch/>
          </p:blipFill>
          <p:spPr>
            <a:xfrm>
              <a:off x="3067200" y="3924360"/>
              <a:ext cx="377172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149640" y="3591000"/>
              <a:ext cx="360360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4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Verdana"/>
                </a:rPr>
                <a:t>ECMWF S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213600" y="2168640"/>
            <a:ext cx="36036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C-Earth3 T511/ORCA0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5558" r="0" b="0"/>
          <a:stretch/>
        </p:blipFill>
        <p:spPr>
          <a:xfrm>
            <a:off x="5143680" y="2727360"/>
            <a:ext cx="5030640" cy="3672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7160" y="863640"/>
            <a:ext cx="9767880" cy="207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rrelation of the ensemble mean and ratio RMSE/spread of Niño3.4 SST (versus ERSST) from four-month EC-Earth3 simulations: </a:t>
            </a:r>
            <a:r>
              <a:rPr b="1" lang="en-GB" sz="2000" spc="-1" strike="noStrike">
                <a:solidFill>
                  <a:srgbClr val="0000ff"/>
                </a:solidFill>
                <a:latin typeface="Verdana"/>
              </a:rPr>
              <a:t>T255/ORCA1</a:t>
            </a:r>
            <a:r>
              <a:rPr b="0" lang="en-GB" sz="2000" spc="-1" strike="noStrike">
                <a:solidFill>
                  <a:srgbClr val="0000ff"/>
                </a:solidFill>
                <a:latin typeface="Verdana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ae00"/>
                </a:solidFill>
                <a:latin typeface="Verdana"/>
              </a:rPr>
              <a:t>T511/ORCA025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May start dates over 1993-2009 using ERA-Interim and GLORYS initial conditions and five-member ensembles. 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ECMWF S4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dded for refer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5160" y="20916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easonal prediction: Impact of resol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0" t="9650" r="52769" b="0"/>
          <a:stretch/>
        </p:blipFill>
        <p:spPr>
          <a:xfrm>
            <a:off x="316080" y="2754360"/>
            <a:ext cx="4381200" cy="3436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080" y="6103800"/>
            <a:ext cx="5176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. Asif, I. Andreu-Burillo (IC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87520" y="3147840"/>
            <a:ext cx="11253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T255/ORCA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87520" y="3338640"/>
            <a:ext cx="11253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T511/ORCA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38960" y="3654360"/>
            <a:ext cx="16635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T511/ORCA025 RM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38960" y="3843360"/>
            <a:ext cx="18000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T511/ORCA025 spre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38960" y="3303720"/>
            <a:ext cx="16635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T255/ORCA1 RM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38960" y="3473280"/>
            <a:ext cx="16635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T255/ORCA1 spre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7160" y="863640"/>
            <a:ext cx="9767880" cy="207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edictions of DJF NAO with EC-Earth3 low and high resolution and ECMWF S4 started in November over 1993-2009 with ERA-Interim and GLORYS initial conditions and five-member ensembles. Correlation of the ensemble mean on top lef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5160" y="20916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easonal prediction: Impact of resol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46080" y="6103800"/>
            <a:ext cx="5176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. Asif, I. Andreu-Burillo (IC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6352" r="4494" b="12704"/>
          <a:stretch/>
        </p:blipFill>
        <p:spPr>
          <a:xfrm>
            <a:off x="6413400" y="2625840"/>
            <a:ext cx="3444840" cy="2063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rcRect l="0" t="6352" r="4494" b="12704"/>
          <a:stretch/>
        </p:blipFill>
        <p:spPr>
          <a:xfrm>
            <a:off x="3197160" y="4379760"/>
            <a:ext cx="3440160" cy="2063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rcRect l="0" t="6352" r="4494" b="12704"/>
          <a:stretch/>
        </p:blipFill>
        <p:spPr>
          <a:xfrm>
            <a:off x="92160" y="2579760"/>
            <a:ext cx="3440160" cy="2063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35000" y="2303640"/>
            <a:ext cx="36036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C-Earth3 T255/ORC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49640" y="4086360"/>
            <a:ext cx="36036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CMWF S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02520" y="2349360"/>
            <a:ext cx="36036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C-Earth3 T511/ORCA0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3T17:38:31Z</dcterms:created>
  <dc:creator>F.J. Doblas-Reyes</dc:creator>
  <dc:description/>
  <cp:keywords/>
  <dc:language>en-US</dc:language>
  <cp:lastModifiedBy>IC3</cp:lastModifiedBy>
  <cp:lastPrinted>2001-09-19T15:15:32Z</cp:lastPrinted>
  <dcterms:modified xsi:type="dcterms:W3CDTF">2014-02-26T17:29:03Z</dcterms:modified>
  <cp:revision>2124</cp:revision>
  <dc:subject/>
  <dc:title>Diapositiva 1</dc:title>
</cp:coreProperties>
</file>